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23.png" ContentType="image/png"/>
  <Override PartName="/ppt/media/image9.png" ContentType="image/png"/>
  <Override PartName="/ppt/media/image8.png" ContentType="image/png"/>
  <Override PartName="/ppt/media/image14.jpeg" ContentType="image/jpeg"/>
  <Override PartName="/ppt/media/image7.png" ContentType="image/png"/>
  <Override PartName="/ppt/media/image1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21.jpeg" ContentType="image/jpeg"/>
  <Override PartName="/ppt/media/image16.jpeg" ContentType="image/jpeg"/>
  <Override PartName="/ppt/media/image20.png" ContentType="image/png"/>
  <Override PartName="/ppt/media/image19.png" ContentType="image/png"/>
  <Override PartName="/ppt/media/image1.png" ContentType="image/png"/>
  <Override PartName="/ppt/media/image3.jpeg" ContentType="image/jpeg"/>
  <Override PartName="/ppt/media/image18.jpeg" ContentType="image/jpeg"/>
  <Override PartName="/ppt/media/image17.png" ContentType="image/png"/>
  <Override PartName="/ppt/media/image15.jpeg" ContentType="image/jpeg"/>
  <Override PartName="/ppt/media/image4.jpeg" ContentType="image/jpe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26285-77F3-4CDF-834E-A762560A3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5FB57-B535-4C8E-AAEE-E8AD56E98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DC696-6B38-45DB-B3A8-00BDDAFC9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8A0A4-5F5E-4C6A-A7AB-C0456533B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A2DB7-651B-4953-BBD7-F4006908C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9B10F-ECED-4E94-ADE8-FC147B390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F41E7-3FBB-420A-B499-8CB7D0D00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DE32D-C9CA-455E-991F-FFB3B9B41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BE8EB-D01C-42C5-9AB0-D208FAADB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8304A-D7AA-4F0B-9D81-9C826BAA0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AE712-033E-4710-B249-15664A52D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5FC26-12E7-4696-AFC2-D44DEAF9D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F3495-E696-40ED-9B95-145B0D28F7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3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4.jpeg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e-quadrat.narod.ru/01/pictures/01-turn-f3-600.gif" TargetMode="External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kindergenii.ru/grdiktant.htm" TargetMode="External"/><Relationship Id="rId2" Type="http://schemas.openxmlformats.org/officeDocument/2006/relationships/hyperlink" Target="http://www.kindergenii.ru/grdiktant.htm" TargetMode="External"/><Relationship Id="rId3" Type="http://schemas.openxmlformats.org/officeDocument/2006/relationships/hyperlink" Target="http://www.kindergenii.ru/grdiktant.htm" TargetMode="External"/><Relationship Id="rId4" Type="http://schemas.openxmlformats.org/officeDocument/2006/relationships/hyperlink" Target="http://www.kindergenii.ru/grdiktant.htm" TargetMode="External"/><Relationship Id="rId5" Type="http://schemas.openxmlformats.org/officeDocument/2006/relationships/hyperlink" Target="http://www.kindergenii.ru/grdiktant.htm" TargetMode="External"/><Relationship Id="rId6" Type="http://schemas.openxmlformats.org/officeDocument/2006/relationships/hyperlink" Target="http://tests.kulichki.com/golovolomki/" TargetMode="External"/><Relationship Id="rId7" Type="http://schemas.openxmlformats.org/officeDocument/2006/relationships/hyperlink" Target="http://tests.kulichki.com/golovolomki/" TargetMode="External"/><Relationship Id="rId8" Type="http://schemas.openxmlformats.org/officeDocument/2006/relationships/hyperlink" Target="http://tests.kulichki.com/golovolomki/" TargetMode="External"/><Relationship Id="rId9" Type="http://schemas.openxmlformats.org/officeDocument/2006/relationships/hyperlink" Target="http://tests.kulichki.com/golovolomki/" TargetMode="External"/><Relationship Id="rId10" Type="http://schemas.openxmlformats.org/officeDocument/2006/relationships/hyperlink" Target="http://tests.kulichki.com/golovolomki/" TargetMode="External"/><Relationship Id="rId11" Type="http://schemas.openxmlformats.org/officeDocument/2006/relationships/hyperlink" Target="http://tests.kulichki.com/golovolomki/" TargetMode="External"/><Relationship Id="rId12" Type="http://schemas.openxmlformats.org/officeDocument/2006/relationships/hyperlink" Target="http://dob.1september.ru/article.php?ID=200700518" TargetMode="External"/><Relationship Id="rId13" Type="http://schemas.openxmlformats.org/officeDocument/2006/relationships/hyperlink" Target="http://pedagogic.ru/books/item/f00/s00/z0000010/st004.shtml" TargetMode="External"/><Relationship Id="rId1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3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71640" y="836640"/>
            <a:ext cx="583272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0000"/>
                </a:solidFill>
                <a:latin typeface="Arial"/>
              </a:rPr>
              <a:t>Увлекательное обучение детей декодированию графической информа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149360"/>
            <a:ext cx="6400800" cy="23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Выполнил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ошева Оксана – координатор групп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ахнина Юл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Лодыгина Татья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Моисеева Мар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Руководитель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Габова М.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68360" y="836640"/>
            <a:ext cx="2301840" cy="287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2340000" y="260280"/>
            <a:ext cx="431496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2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Акдемия графических наук</a:t>
            </a:r>
            <a:endParaRPr b="0" lang="en-US" sz="2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С помощью магистра графических наук решаются следующие задач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8075880" cy="39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Развитие умений определять и называть вид графического изображения (чертеж, схема, карта, план, наглядное изображение)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br>
              <a:rPr sz="2400"/>
            </a:b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Анализ (выделение и называние) вида графического изображе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Называние вида заданного графического изображе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Нахождение названного вида графического изображе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Установление соответствия графического изображения и его назва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250920" y="5229360"/>
            <a:ext cx="1258920" cy="12589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1763640" y="5157720"/>
            <a:ext cx="1419120" cy="13525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3564000" y="5084640"/>
            <a:ext cx="923760" cy="14385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4"/>
          <a:stretch/>
        </p:blipFill>
        <p:spPr>
          <a:xfrm>
            <a:off x="4716360" y="5084640"/>
            <a:ext cx="1447920" cy="14479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5"/>
          <a:stretch/>
        </p:blipFill>
        <p:spPr>
          <a:xfrm>
            <a:off x="6372360" y="5300640"/>
            <a:ext cx="1224000" cy="12240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6"/>
          <a:stretch/>
        </p:blipFill>
        <p:spPr>
          <a:xfrm>
            <a:off x="7812000" y="5373720"/>
            <a:ext cx="1074960" cy="10746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323640" y="404640"/>
            <a:ext cx="71276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Развитие умений определять, называть свойства изображенных объектов и их частей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br>
              <a:rPr sz="2400"/>
            </a:b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Анализ (выделение, называние) формы изображенных предметов (в т.ч. геометрических фигур) и их частей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Выделение и называние заданных форм в графических изображения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Выделение элементов изображенных фигур: вершин, углов, сторон, ребер, гране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Определение симметричности изображенных объекто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6300720" y="4365720"/>
            <a:ext cx="2448000" cy="194292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68360" y="4042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Анализ (выделение, называние) величины изображенных предметов и их частей Выделение заданных параметров величи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Сравнение изображенных объектов по величин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Установление сериационных отношений изображенных объектов по величин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2843280" y="422100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2050920" y="566100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7667640" y="5589720"/>
            <a:ext cx="1028520" cy="10285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4"/>
          <a:stretch/>
        </p:blipFill>
        <p:spPr>
          <a:xfrm>
            <a:off x="684360" y="4724280"/>
            <a:ext cx="799920" cy="8002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5"/>
          <a:stretch/>
        </p:blipFill>
        <p:spPr>
          <a:xfrm>
            <a:off x="6227640" y="429264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6"/>
          <a:stretch/>
        </p:blipFill>
        <p:spPr>
          <a:xfrm>
            <a:off x="4427640" y="5084640"/>
            <a:ext cx="1485720" cy="148608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250920" y="260280"/>
            <a:ext cx="640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Анализ (выделение, называние) пространственных отношений изображенных предметов и их частей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«Чтение» лабиринто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Определение взаимного расположения объектов и их частей на изображения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Сравнение изображени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5651640" y="2565360"/>
            <a:ext cx="3268440" cy="39798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619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Комплексные задания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Выделение существенных признаков сходства или различия изображенных объектов и их часте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Выделение объектов на «зашумленных» или наложенных изображения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Поиск отличий в сходных изображения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Группировка изображений по различным признака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.Определение недостающих или неадекватных деталей изображе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.Установление соответствия изображений и реальных объекто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.Ориентировка по планам (чтение), соотнесение с реальной обстановко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.Анализ изображений паркетов, мозаик, орнаментов: выделение составных частей (мотивов), определение их формы, величины и взаимного расположе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.Установление закономерностей в построении изображе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2195640" y="5013360"/>
            <a:ext cx="2016000" cy="1660320"/>
          </a:xfrm>
          <a:prstGeom prst="rect">
            <a:avLst/>
          </a:prstGeom>
          <a:ln w="0">
            <a:noFill/>
          </a:ln>
        </p:spPr>
      </p:pic>
      <p:pic>
        <p:nvPicPr>
          <p:cNvPr id="94" name="26" descr="Математические мозаики: Рис.26"/>
          <p:cNvPicPr/>
          <p:nvPr/>
        </p:nvPicPr>
        <p:blipFill>
          <a:blip r:embed="rId2"/>
          <a:stretch/>
        </p:blipFill>
        <p:spPr>
          <a:xfrm>
            <a:off x="5651640" y="5084640"/>
            <a:ext cx="1944720" cy="1570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 spd="med">
    <p:wheel spokes="8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6840" y="260280"/>
            <a:ext cx="577044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Развитие умений анализировать графический состав изображений (виды линий) </a:t>
            </a:r>
            <a:br>
              <a:rPr sz="2400"/>
            </a:b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Анализ изображени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Нахождение, называние типов линий, использованных в изображени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Поиск отличий в сходных изображениях (по типам линий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Группировка изображени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5435640" y="2781360"/>
            <a:ext cx="3384360" cy="258264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6840" y="333000"/>
            <a:ext cx="577044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Развитие умений конструировать по графическому изображению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Конструирование плоскостных моделей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Конструирование по полному образцу (расчлененному на части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Конструирование по частично расчлененному образц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Конструирование по нерасчлененному образцу (контур, силуэт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6208560" y="2781360"/>
            <a:ext cx="2217960" cy="1668960"/>
            <a:chOff x="6208560" y="2781360"/>
            <a:chExt cx="2217960" cy="1668960"/>
          </a:xfrm>
        </p:grpSpPr>
        <p:sp>
          <p:nvSpPr>
            <p:cNvPr id="99" name=""/>
            <p:cNvSpPr/>
            <p:nvPr/>
          </p:nvSpPr>
          <p:spPr>
            <a:xfrm>
              <a:off x="6208560" y="3615840"/>
              <a:ext cx="291600" cy="833760"/>
            </a:xfrm>
            <a:prstGeom prst="can">
              <a:avLst>
                <a:gd name="adj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500520" y="3551760"/>
              <a:ext cx="349920" cy="898560"/>
            </a:xfrm>
            <a:prstGeom prst="cube">
              <a:avLst>
                <a:gd name="adj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200720" y="3551760"/>
              <a:ext cx="349560" cy="898560"/>
            </a:xfrm>
            <a:prstGeom prst="cube">
              <a:avLst>
                <a:gd name="adj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500520" y="3359160"/>
              <a:ext cx="933840" cy="6415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208560" y="3294720"/>
              <a:ext cx="233640" cy="4492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551000" y="3615840"/>
              <a:ext cx="291600" cy="833760"/>
            </a:xfrm>
            <a:prstGeom prst="can">
              <a:avLst>
                <a:gd name="adj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551000" y="3294720"/>
              <a:ext cx="233640" cy="4489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842600" y="3294720"/>
              <a:ext cx="233280" cy="1155240"/>
            </a:xfrm>
            <a:prstGeom prst="cube">
              <a:avLst>
                <a:gd name="adj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192880" y="3294720"/>
              <a:ext cx="233640" cy="1155240"/>
            </a:xfrm>
            <a:prstGeom prst="cube">
              <a:avLst>
                <a:gd name="adj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842600" y="3166200"/>
              <a:ext cx="583560" cy="192240"/>
            </a:xfrm>
            <a:prstGeom prst="cube">
              <a:avLst>
                <a:gd name="adj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959240" y="2973600"/>
              <a:ext cx="349920" cy="256320"/>
            </a:xfrm>
            <a:prstGeom prst="cube">
              <a:avLst>
                <a:gd name="adj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076240" y="2781360"/>
              <a:ext cx="115920" cy="2566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792480" y="4129560"/>
              <a:ext cx="408240" cy="320400"/>
            </a:xfrm>
            <a:prstGeom prst="cube">
              <a:avLst>
                <a:gd name="adj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wheel spokes="8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6840" y="404640"/>
            <a:ext cx="5770440" cy="554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Конструирование объемных моделей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Конструирование из готовых разверток, выкроек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Конструирование по наглядному изображению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Конструирование по чертежу в нескольких вида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01-turn-f3-200" descr="Журнал Квадрат - Фигура #3">
            <a:hlinkClick r:id="rId1"/>
          </p:cNvPr>
          <p:cNvPicPr/>
          <p:nvPr/>
        </p:nvPicPr>
        <p:blipFill>
          <a:blip r:embed="rId2"/>
          <a:stretch/>
        </p:blipFill>
        <p:spPr>
          <a:xfrm rot="5400000">
            <a:off x="5106600" y="1598400"/>
            <a:ext cx="3600360" cy="1644840"/>
          </a:xfrm>
          <a:prstGeom prst="rect">
            <a:avLst/>
          </a:prstGeom>
          <a:ln w="0">
            <a:noFill/>
          </a:ln>
        </p:spPr>
      </p:pic>
      <p:pic>
        <p:nvPicPr>
          <p:cNvPr id="114" name="01-turn-f3-ready-150" descr="Журнал Квадрат - Фигура #3"/>
          <p:cNvPicPr/>
          <p:nvPr/>
        </p:nvPicPr>
        <p:blipFill>
          <a:blip r:embed="rId3"/>
          <a:stretch/>
        </p:blipFill>
        <p:spPr>
          <a:xfrm>
            <a:off x="6804000" y="4724280"/>
            <a:ext cx="1460520" cy="146052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7354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Развитие умений читать и воспроизводить заданную в графическом изображении последовательность действий </a:t>
            </a:r>
            <a:br>
              <a:rPr sz="2800"/>
            </a:b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Анализ графического изображения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Конструирование по схеме, отражающей последовательность действий (оригами, «Квадрат Воскобовича»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Определение и воспроизведение заданной последовательности действи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9152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Arial"/>
              </a:rPr>
              <a:t>Комплекс диагностических заданий по декодированию графической информа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9640" y="1988640"/>
            <a:ext cx="8229600" cy="431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одержит диагностические задания для выявления уровня сформированности умений по декодированию графической информации. Выполнение заданий оценивается по трехбалльной системе. В конце комплекса заданий дана характеристика уровн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Цель проект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зработать методические пособия по формированию знаний и умений у детей старшего дошкольного возраста декодировать графическую информаци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564000" y="4292640"/>
            <a:ext cx="2160360" cy="216072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619280" y="476280"/>
            <a:ext cx="4591080" cy="564984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 txBox="1"/>
          <p:nvPr/>
        </p:nvSpPr>
        <p:spPr>
          <a:xfrm>
            <a:off x="2700360" y="2133720"/>
            <a:ext cx="2381400" cy="22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Имя________________________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Фамилия____________________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           </a:t>
            </a: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Успешно закончил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    </a:t>
            </a: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ГРАФИЧЕСКУЮ АКАДЕМИЮ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ЗВАНИЕ 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Мастер по декодированию 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графической информации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2987640" y="907920"/>
            <a:ext cx="172872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Диплом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4"/>
          <a:stretch/>
        </p:blipFill>
        <p:spPr>
          <a:xfrm>
            <a:off x="1692360" y="549360"/>
            <a:ext cx="923760" cy="115236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Список литератур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геева С.И. Обучение с увлечение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сарина Е.Ю., Фрид М.Е. Секреты квадрата и кубика. - М., 1995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сарина Е.Ю., Фрид М.Е. Симметрия, орнаменты и мозаики. - М., 1995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ардина Р.И. Куда не ходят поез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артковский А., Лыкова И. Цветная геометр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олкова С.И. Математические ступень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абова М.А. Технология развития пространственного мышления и графических умений у детей 6 – 7 лет: Практическое пособие. – М.: АРКТИ, 200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абова М.А. Графика в детском саду: Технология развития пространственного мышления детей 6 – 7 лет (на основе графических изображений). - Сыктывкар: КГПИ, 2002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абова М.А. Знакомство детей с геометрическими фигурами // Дошкольное воспитание. – М., 2000. - №9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абова М.А. Путешествия по стране Графика. Технология развития основ графической грамоты у детей 6 – 7 лет // Образование в современной школе. – 2003. - № 10,11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абова М.А. Путешествия с Линиточкой, Квадругом и Шарубиком по стране Графика: Технология развития основ графической грамоты у детей 6 – 7 лет // Дошкольное образование. - 2007. - № 5, 6 (вкладка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Список литератур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абова М.А. Путешествия по стране Графика. Технология развития основ графической грамоты у детей 6 – 7 лет // Образование в современной школе. – 2003. - № 10,11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абова М.А. Путешествия с Линиточкой, Квадругом и Шарубиком по стране Графика: Технология развития основ графической грамоты у детей 6 – 7 лет // Дошкольное образование. - 2007. - № 5, 6 (вкладка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аврина С.Е., Кутявина Н.Л. Готовим руку к письм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енис А.Л. Считалоч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лесникова Е.В. Цвет и форм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еерзон А.Е., Чекин А.Л. Азбука математи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овикова Е.В. Как подготовить руку ребенка к письм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ултанова М.Н. Развиваем пространственное мышл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://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kindergenii.ru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/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grdiktant.h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http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://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tests.kulichki.com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/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golovolomki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http://dob.1september.ru/article.php?ID=20070051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http://pedagogic.ru/books/item/f00/s00/z0000010/st004.s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1547640" y="1197000"/>
            <a:ext cx="6045480" cy="11494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пасибо за внимание!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3132000" y="2060640"/>
            <a:ext cx="3086280" cy="38574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Задач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зучение теоретических основ проблемы декодирования графической информации детьми старшего дошкольного возраст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нализ комплексных вариативных программ на предмет содержания задач по декодированию графической информаци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дбор методической литературы по проблем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зработка методических пособий по формированию знаний и умений у детей старшего дошкольного возраста декодировать графическую информац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Анализ программ выявил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 программах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«Детство»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«Программа воспитания и обучения в детском саду»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«Радуга»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«Парма»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достаточно полно представлены задачи по разделу «Декодирование графической информаци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иболее полно и развернуто задачи изложены в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«Программе воспитания и обучения в детском саду»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 разделах: математика, конструирование, ручной труд.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24000" y="274680"/>
            <a:ext cx="836280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Arial"/>
              </a:rPr>
              <a:t>«Программа воспитания и обучения в детском саду» 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39280" y="1341000"/>
            <a:ext cx="814716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Группы  задач по декодированию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звитие умение определять и называть вид графических изображений (чертеж, схема, карта, план, наглядное изображени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звитие умений определять, называть свойства изображенных объектов и их част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звитие умений анализировать графический состав изображения (виды линий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звитие умения конструировать по графическому изображени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звитие умения читать и воспроизводить заданную в графическом изображении последовательность действ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Arial"/>
              </a:rPr>
              <a:t>Портфолео проекта включает в себя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4000" y="1599840"/>
            <a:ext cx="83628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уклет с рекомендациями для родителей по использованию рабочих тетрад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бочая тетрадь для овладения детьми декодированием графической информ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омплекс диагностических заданий по декодированию графической информ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Методические пособия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280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уклет с рекомендациями для родителей по использованию рабочих тетрад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059280" y="1341360"/>
            <a:ext cx="5611680" cy="518328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Рабочая тетрадь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60647997_1277198066_btjmobbo6[1]" descr=""/>
          <p:cNvPicPr/>
          <p:nvPr/>
        </p:nvPicPr>
        <p:blipFill>
          <a:blip r:embed="rId1"/>
          <a:stretch/>
        </p:blipFill>
        <p:spPr>
          <a:xfrm>
            <a:off x="3851280" y="3645000"/>
            <a:ext cx="1957320" cy="244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 txBox="1"/>
          <p:nvPr/>
        </p:nvSpPr>
        <p:spPr>
          <a:xfrm>
            <a:off x="2124000" y="1844640"/>
            <a:ext cx="5587920" cy="5716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Акдемия графических наук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2700360" y="2276640"/>
            <a:ext cx="4427640" cy="113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Рабочая тетрадь для овладения детьми 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декодированием графической 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нформации 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1028880" y="7515360"/>
            <a:ext cx="4228920" cy="5713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тарший дошкольный возраст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800" y="-36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332000" y="1413000"/>
            <a:ext cx="0" cy="48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332000" y="1413000"/>
            <a:ext cx="684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8172360" y="1413000"/>
            <a:ext cx="0" cy="48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332000" y="6308640"/>
            <a:ext cx="684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Рабочая тетрадь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6346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ебенок вместе со взрослым поступает 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АКАДЕМИЮ ГРАФИЧЕСКИХ НАУ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десь он осваивает знания и умения по декодированию графической информации вместе с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магистром графических нау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Мудрый магистр следит за качеством выполнения ребенком заданий, оценивает их. По итогам выполнения всех заданий ребенку вручается диплом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60647997_1277198066_btjmobbo6[1]" descr=""/>
          <p:cNvPicPr/>
          <p:nvPr/>
        </p:nvPicPr>
        <p:blipFill>
          <a:blip r:embed="rId1"/>
          <a:stretch/>
        </p:blipFill>
        <p:spPr>
          <a:xfrm>
            <a:off x="6877080" y="2565360"/>
            <a:ext cx="1957320" cy="24480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5T16:22:03Z</dcterms:created>
  <dc:creator>User</dc:creator>
  <dc:description/>
  <dc:language>en-US</dc:language>
  <cp:lastModifiedBy>AUD312</cp:lastModifiedBy>
  <dcterms:modified xsi:type="dcterms:W3CDTF">2010-12-24T08:06:44Z</dcterms:modified>
  <cp:revision>5</cp:revision>
  <dc:subject/>
  <dc:title>Увлекательное обучение детей декодированию графической информации</dc:title>
</cp:coreProperties>
</file>